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491-6B68-43A2-A1E0-BB7FA2C7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7F4-8F37-4093-9E08-A45DB77F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85B-1E97-43CB-A8EA-9C60BB8C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4E8-BF23-4CDB-98B1-62F15FFF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34C9-F8F2-4CB2-A04B-95F40953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4FE0-A79F-42B5-B9E1-3C3E0AF0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FE38-EA31-44DC-AAD6-4C962323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9FDD-C025-455F-9CD2-C1C916A0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10E3-2F99-485C-9550-8489842D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2DFA-60A5-4956-83F0-664A5817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66CC-AEDE-4772-A02E-0EE17127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1C7C-DA5E-420A-96C6-F8FFF646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B37E-1208-46FE-8720-025FB79D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8E4F-9A98-4DFB-BBC5-C3AF0C8B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2247-3EE4-4590-9AF9-2E0845DD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60D7-1D4A-4F75-86B1-FE1D38C5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D71D-EC3D-459A-BC97-D040EA2F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117D-0F8F-489F-84CD-BCE440E3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4A8-6019-4851-A1FC-8F07B54F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72E8-2026-4D29-AF44-E9427A13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12F7-5CFC-4FDF-9405-B531245C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95D2-F497-41DB-A2A6-47E46E93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EFD-608C-419F-9718-DC1A0348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BE1-25E2-48DB-A233-CABE66B2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79F0-2225-47EA-BF69-A3A95DB6942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4CD8-6589-4235-B5D8-4694D5520A5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5410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000"/>
            </a:b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أمام كأس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2060640"/>
            <a:ext cx="5472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مامَ كأسِك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تَنحني الرؤوسُ... تخفِقُ القلوبُ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ea typeface="Akhbar MT"/>
              </a:rPr>
              <a:t> تتمتمُ الشفاهُ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176840" y="1739880"/>
            <a:ext cx="746244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تحلمُ العيون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بنورِكَ المُضيء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1640" y="476280"/>
            <a:ext cx="622800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مــامَ كــأسِــك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نـهـتِـفُ بـالـدُعـاءِ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2641680"/>
            <a:ext cx="5292720" cy="733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ندعـو بـاسمِـك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نُحـاوِرُ السمـاء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فاستَجِـبْ لنـ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-108000" y="2060640"/>
            <a:ext cx="5472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مامَ كأسِك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تَنحني الرؤوسُ... تخفِقُ القلوبُ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ea typeface="Akhbar MT"/>
              </a:rPr>
              <a:t> تتمتمُ الشفاهُ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811800" y="1879560"/>
            <a:ext cx="6732360" cy="316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تحلمُ العيون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بنورِكَ المُضيء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5-16T10:41:01Z</dcterms:modified>
  <cp:revision>19</cp:revision>
  <dc:subject/>
  <dc:title>PowerPoint Presentation</dc:title>
</cp:coreProperties>
</file>